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824FFF-9E4C-4D5D-93E9-861A3B1E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05225E-0F7D-4E0D-BDC2-2FD799B2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1697ED-C0A4-4EAB-9253-32DE7DCD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571EBE-D779-4BC2-81AA-F957CC2F6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A69845-8B6F-4CBC-B713-CD64814B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F9CFFA-C719-4629-86A0-0CF845A9D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  <a:ea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228BD3-4DEA-4FE8-89F3-503DC482E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949294-725C-41F1-9401-9969E412F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7AF77C-FB94-4A3A-8DCA-A1EA58DD5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A4E665-56D4-4757-8450-F3477DDF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B6F7C4-6D00-4AD3-8E66-7FFED6129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54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A056DC-0358-466B-A314-9998A36E7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284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19360" y="129528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32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284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19360" y="3524400"/>
            <a:ext cx="245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95120" y="151920"/>
            <a:ext cx="6324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71240" y="352440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295280"/>
            <a:ext cx="3718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524400"/>
            <a:ext cx="7620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2133360"/>
            <a:ext cx="66294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9900"/>
                </a:solidFill>
                <a:latin typeface="Arial"/>
              </a:rPr>
              <a:t>Dobrodošli u </a:t>
            </a:r>
            <a:r>
              <a:rPr b="1" lang="en-US" sz="7200" spc="-1" strike="noStrike">
                <a:solidFill>
                  <a:srgbClr val="009900"/>
                </a:solidFill>
                <a:latin typeface="Arial"/>
              </a:rPr>
              <a:t>Wall Street</a:t>
            </a:r>
            <a:endParaRPr b="1" lang="en-US" sz="7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6" name="Picture 5" descr="Extension logo 12-01"/>
          <p:cNvPicPr/>
          <p:nvPr/>
        </p:nvPicPr>
        <p:blipFill>
          <a:blip r:embed="rId1"/>
          <a:stretch/>
        </p:blipFill>
        <p:spPr>
          <a:xfrm>
            <a:off x="1676520" y="5673600"/>
            <a:ext cx="175248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632448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Shvatanje tržišta kapital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3200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što kompanije prodaju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ji mogu biti izvori finansiranja kompan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dje kupiti akci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ko pratiti stanj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treba investirati u akc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Nadzor</a:t>
            </a:r>
            <a:r>
              <a:rPr b="1" lang="sr-Latn-C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91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3244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</a:rPr>
              <a:t>Šta je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Wall Street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Picture 5" descr="bs00558a"/>
          <p:cNvPicPr/>
          <p:nvPr/>
        </p:nvPicPr>
        <p:blipFill>
          <a:blip r:embed="rId1"/>
          <a:stretch/>
        </p:blipFill>
        <p:spPr>
          <a:xfrm>
            <a:off x="1295280" y="1447920"/>
            <a:ext cx="54864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3244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Šta je akcij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lasništvo u kompanij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s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n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cija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jene/kvo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bvezi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320" y="12952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ezni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upon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žište novca i kapita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70536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Zašto kompanije emituju akcije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3276720"/>
            <a:ext cx="56386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panz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r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t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447560"/>
            <a:ext cx="609588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Finansijska tržišta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?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31237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er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Counter Marke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O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nudarno tržiš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388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Rizik i prinos – obična akcij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28191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olding period yield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or return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(HPY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Arial"/>
              </a:rPr>
              <a:t> or HP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Y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vidends + Price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rchase Price 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32448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00"/>
                </a:solidFill>
                <a:latin typeface="Arial"/>
                <a:ea typeface="Arial"/>
              </a:rPr>
              <a:t>Berzanski izveštaj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Picture 4" descr="e_stocktable"/>
          <p:cNvPicPr/>
          <p:nvPr/>
        </p:nvPicPr>
        <p:blipFill>
          <a:blip r:embed="rId1"/>
          <a:stretch/>
        </p:blipFill>
        <p:spPr>
          <a:xfrm>
            <a:off x="541440" y="2819520"/>
            <a:ext cx="8421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3248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42900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Industrijskih akci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jenovno ponderisan inde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Koji su njegovi nedostaci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371600" y="16765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Dow J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  <a:ea typeface="Arial"/>
              </a:rPr>
              <a:t>Industrial 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4:05:28Z</dcterms:created>
  <dc:creator>Ext CDFS</dc:creator>
  <dc:description/>
  <dc:language>en-US</dc:language>
  <cp:lastModifiedBy>User</cp:lastModifiedBy>
  <dcterms:modified xsi:type="dcterms:W3CDTF">2018-02-12T07:09:12Z</dcterms:modified>
  <cp:revision>25</cp:revision>
  <dc:subject/>
  <dc:title>Welcome to Wall Street</dc:title>
</cp:coreProperties>
</file>